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8BC-6485-4612-AC0A-B82A421B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7F1-1B2C-4D8F-90A8-750E6497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31B-2E75-4AA8-A599-F61E7725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822-EE8F-4958-BC8D-2EFAF07B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4AE-726F-47EB-A8AC-3A9D004C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733-A7F1-4438-AAE7-060ABCAD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C76-EC70-4F0E-B8C6-F0161490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0E2-40E0-4A5B-AA06-3D775D0E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D51-9F39-4664-BFEF-BBDF216F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A97-18C2-49F6-B6E0-83BCB7AB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7CB-E02E-43CB-91C5-D478187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DEA-FC5D-4F8A-B146-AD552FEF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FB30-D4E4-469C-A590-1751282CC9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857240" y="428760"/>
            <a:ext cx="564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чему Юпитер, Сатурн, Нептун  и Ура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зываются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ланетами – гигантами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714760" y="3357720"/>
            <a:ext cx="41511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58200" y="28584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57120" y="10000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ознакомиться  с общими характеристиками планет-гиг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66480" y="200016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14200" y="2071800"/>
            <a:ext cx="83584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Ознакомиться с объектами звёздного не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Формирование понятий об основных физических характеристиках планет-гиг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фотоЮ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428760" y="21420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ланета - гигант – Юпит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4572000" y="560520"/>
            <a:ext cx="4572000" cy="62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alibri"/>
              </a:rPr>
              <a:t>Юпитер - самая крупная из всех планет солнечной системы. Он находится от Солнца на расстоянии в 5 раз дальше, чем Земля, и проходит свой путь вокруг Солнца за 12 ле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alibri"/>
              </a:rPr>
              <a:t>Диаметр Юпитера в 11 раз больше Земли, а по объему из Юпитера можно было бы сделать 1345 таких шаров, как Земл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сатур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374400" y="357120"/>
            <a:ext cx="389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ланета Сатур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14200" y="4179960"/>
            <a:ext cx="5643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та планета давно привлекает взоры астрономов всего мира своим необычным видом. На сплюснутый шар "надето" яркое, очень большое кольц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857840" y="28584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атурн - вторая из планет-гиган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фотУ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20320" y="214200"/>
            <a:ext cx="43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ланета-гигант УР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928800" y="1714680"/>
            <a:ext cx="82152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 расстоянии в 19 раз большем от Солнца, чем Земля  медленно движется по своей орбите Уран. Назван он так в честь древнеримского бога неб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та планета так далеко от Земли, что разглядеть что-нибудь на ее поверхности невозмож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фот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13560" y="428760"/>
            <a:ext cx="519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ланета-гигант Непту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286160" y="2000160"/>
            <a:ext cx="4572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етвертая планета, принадлежащая к планетам - гигантам, это планета Нептун, названная в честь римского бога мор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та планета была открыта французским астрономом Леверье в 1846 го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85840" y="1214280"/>
            <a:ext cx="8572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ланеты-гиганты:   Юпитер, Сатурн, Уран и Нептун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о сравнению с Землей это действительно гиган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о даже самая большая планета– Юпитер – в 1 000 раз легче Солнца.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61440" y="357120"/>
            <a:ext cx="21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428760" y="785880"/>
            <a:ext cx="828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Работу выполнили группа историков 6 в класса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Михайлов Ив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орокина Кс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идоров Никола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4:59:55Z</dcterms:created>
  <dc:creator>SamLab.ws</dc:creator>
  <dc:description/>
  <dc:language>en-US</dc:language>
  <cp:lastModifiedBy>SamLab.ws</cp:lastModifiedBy>
  <dcterms:modified xsi:type="dcterms:W3CDTF">2011-05-28T15:32:32Z</dcterms:modified>
  <cp:revision>4</cp:revision>
  <dc:subject/>
  <dc:title>Слайд 1</dc:title>
</cp:coreProperties>
</file>